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67.jpeg" ContentType="image/jpeg"/>
  <Override PartName="/ppt/media/image47.jpeg" ContentType="image/jpeg"/>
  <Override PartName="/ppt/media/image65.gif" ContentType="image/gif"/>
  <Override PartName="/ppt/media/image23.jpeg" ContentType="image/jpeg"/>
  <Override PartName="/ppt/media/image66.png" ContentType="image/png"/>
  <Override PartName="/ppt/media/image2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chimes.wav" ContentType="audio/x-wav"/>
  <Override PartName="/ppt/media/image1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7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516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23840" y="685440"/>
            <a:ext cx="4810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B4B-E917-4FB9-AB7F-AACB1AA628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23840" y="685800"/>
            <a:ext cx="48103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й причиной сокращения популяции выхухоли является строительство коттеджных поселков в поймах рек и браконьерство с использованием запрещенных средств. К таким средствам относятся, в частности, нейлоновые сети и электроуд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сети, сплетенные из лески, могут оставаться в воде годами. При этом стоят они очень дешево. Браконьеры ставят их в большом количестве и часто о них просто забывают или оставляют при приближении егеря. Если в такую сеть попадает рыба или зверек , то она не в силах перегрызть  леску и погибает в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5E6-E057-4012-9713-BBEB12C8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DDF-21FD-457F-8E28-58EC25C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109-3E62-42E2-ABD6-BF33B307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B82-C19B-4020-B19D-F6D31DFA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560-1F32-463A-B111-8D5EF799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9DF0-5A97-4D59-82E7-35799626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E757-460C-4051-8339-06CF2517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37FD-262E-443A-90FD-B86DBE36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37B6-5FAE-483B-B358-9D25FD37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23040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70C-317E-44C4-9FEF-B6D6810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A9B-29BB-4249-8B45-19A128C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9BF-4888-463B-B5DC-C405495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5FE1-8038-43E4-A5CC-F1B5C62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E884-737F-48B6-8B75-5CFF245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3AE4-1F11-4168-83BA-4017B83F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29AC-FE88-4D94-B6B4-566897AD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88244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3924720"/>
            <a:ext cx="242892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4720-1FB8-4C81-8A15-60A05223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98B-9EB6-4818-88F3-50E18B8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D03-F133-403D-904C-CF9A8E9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838-6B37-4FFF-9AA8-FE197CC8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3040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B77-EC77-4BBE-8C7F-FE8BB8D1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8CF-4266-42B7-9DE5-33D3B7C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392472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E05-D585-430F-9566-A7C3555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882440"/>
            <a:ext cx="368136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24720"/>
            <a:ext cx="7543800" cy="18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A65-EB4A-4AC4-8CBF-D112FB2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51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304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5936760"/>
            <a:ext cx="16002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5936760"/>
            <a:ext cx="35053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5936760"/>
            <a:ext cx="15238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C784-3411-4CF8-8E56-386FA8A1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527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02708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5936760"/>
            <a:ext cx="1622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5936760"/>
            <a:ext cx="29973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5936760"/>
            <a:ext cx="13716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1059-96D9-419A-938C-A69055A5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524600"/>
            <a:ext cx="8229240" cy="37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odiversity.ru/programs/vyhuh/gallery/video.html" TargetMode="External"/><Relationship Id="rId3" Type="http://schemas.openxmlformats.org/officeDocument/2006/relationships/hyperlink" Target="http://www.biodiversity.ru/programs/vyhuh/gallery/video.html" TargetMode="External"/><Relationship Id="rId4" Type="http://schemas.openxmlformats.org/officeDocument/2006/relationships/hyperlink" Target="http://www.biodiversity.ru/programs/vyhuh/gallery/video.html" TargetMode="External"/><Relationship Id="rId5" Type="http://schemas.openxmlformats.org/officeDocument/2006/relationships/hyperlink" Target="http://www.biodiversity.ru/programs/vyhuh/gallery/video.html" TargetMode="External"/><Relationship Id="rId6" Type="http://schemas.openxmlformats.org/officeDocument/2006/relationships/hyperlink" Target="http://www.biodiversity.ru/programs/vyhuh/gallery/video.html" TargetMode="External"/><Relationship Id="rId7" Type="http://schemas.openxmlformats.org/officeDocument/2006/relationships/hyperlink" Target="http://www.biodiversity.ru/programs/vyhuh/gallery/video.html" TargetMode="External"/><Relationship Id="rId8" Type="http://schemas.openxmlformats.org/officeDocument/2006/relationships/hyperlink" Target="http://www.biodiversity.ru/programs/vyhuh/gallery/video.html" TargetMode="External"/><Relationship Id="rId9" Type="http://schemas.openxmlformats.org/officeDocument/2006/relationships/hyperlink" Target="http://www.biodiversity.ru/programs/vyhuh/gallery/video.html" TargetMode="External"/><Relationship Id="rId10" Type="http://schemas.openxmlformats.org/officeDocument/2006/relationships/hyperlink" Target="http://www.biodiversity.ru/programs/vyhuh/gallery/video.html" TargetMode="External"/><Relationship Id="rId11" Type="http://schemas.openxmlformats.org/officeDocument/2006/relationships/hyperlink" Target="http://www.biodiversity.ru/programs/vyhuh/gallery/video.html" TargetMode="External"/><Relationship Id="rId12" Type="http://schemas.openxmlformats.org/officeDocument/2006/relationships/hyperlink" Target="http://www.biodiversity.ru/programs/vyhuh/gallery/video.html" TargetMode="Externa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odiversity.ru/programs/vyhuh/news/020908.html" TargetMode="External"/><Relationship Id="rId3" Type="http://schemas.openxmlformats.org/officeDocument/2006/relationships/hyperlink" Target="http://www.biodiversity.ru/programs/vyhuh/news/020908.html" TargetMode="External"/><Relationship Id="rId4" Type="http://schemas.openxmlformats.org/officeDocument/2006/relationships/hyperlink" Target="http://www.biodiversity.ru/programs/vyhuh/news/020908.html" TargetMode="External"/><Relationship Id="rId5" Type="http://schemas.openxmlformats.org/officeDocument/2006/relationships/hyperlink" Target="http://www.biodiversity.ru/programs/vyhuh/news/020908.html" TargetMode="External"/><Relationship Id="rId6" Type="http://schemas.openxmlformats.org/officeDocument/2006/relationships/hyperlink" Target="http://www.biodiversity.ru/programs/vyhuh/news/020908.html" TargetMode="External"/><Relationship Id="rId7" Type="http://schemas.openxmlformats.org/officeDocument/2006/relationships/hyperlink" Target="http://www.biodiversity.ru/programs/vyhuh/news/020908.html" TargetMode="External"/><Relationship Id="rId8" Type="http://schemas.openxmlformats.org/officeDocument/2006/relationships/hyperlink" Target="http://www.biodiversity.ru/programs/vyhuh/news/020908.html" TargetMode="External"/><Relationship Id="rId9" Type="http://schemas.openxmlformats.org/officeDocument/2006/relationships/hyperlink" Target="http://www.biodiversity.ru/programs/vyhuh/news/020908.html" TargetMode="External"/><Relationship Id="rId10" Type="http://schemas.openxmlformats.org/officeDocument/2006/relationships/hyperlink" Target="http://www.biodiversity.ru/programs/vyhuh/news/020908.html" TargetMode="External"/><Relationship Id="rId11" Type="http://schemas.openxmlformats.org/officeDocument/2006/relationships/hyperlink" Target="http://www.biodiversity.ru/programs/vyhuh/news/020908.html" TargetMode="Externa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048.radikal.ru/0805/7d/181fac1d0b1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-2006-04.photosight.ru/16/1380830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8353440" cy="5953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116000" y="1817640"/>
            <a:ext cx="6121440" cy="32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Выхухоль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символ русской природ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ook Antiqua"/>
              </a:rPr>
              <a:t>в опасност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2898360"/>
            <a:ext cx="54021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2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Между самцами случаются драки, они наносят друг другу очень серьезные повреждения, которые, правда, быстро заживают. Перед дракой зверьки встают "столбиком" и, опираясь на хвост, исследуют с помощью хоботка и вибрисс ("усов") окружающее пространство. В результате нападения один из них оказывается опрокинутым на спину, и его хвост становится наиболее доступным местом для противн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7928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025640"/>
            <a:ext cx="2880000" cy="179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56360" y="2467080"/>
            <a:ext cx="2235240" cy="3529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995640" y="593640"/>
            <a:ext cx="4103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600" indent="15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весеннее половодье за самочкой плавают один или несколько самцов, издавая своеобразные, характерные только для этого времени зву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2682360"/>
            <a:ext cx="7543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Пища выхухоли состоит из пиявок, червей, водяных слизней, комаров, водяных пауков, личинок разных насекомых; рыбаки, правда, говорят, что она ест корни и листья аира, но основанием к этому предположению послужило лишь то обстоятельство, что она особенно часто охотится именно в таких местах, где есть это раст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62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Питание  выхухоли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1025640"/>
            <a:ext cx="1035000" cy="138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47640" y="1025640"/>
            <a:ext cx="107964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771640" y="1025640"/>
            <a:ext cx="1008360" cy="1344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403280" y="5275440"/>
            <a:ext cx="1063800" cy="1027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5580000" y="5275440"/>
            <a:ext cx="1368360" cy="936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924360" y="1025640"/>
            <a:ext cx="107928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148360" y="1025640"/>
            <a:ext cx="944640" cy="13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227640" y="1025640"/>
            <a:ext cx="936720" cy="1323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3132000" y="5310360"/>
            <a:ext cx="1727280" cy="96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93080" y="4284720"/>
            <a:ext cx="1942920" cy="21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522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У выхухоли много врагов, которые уничтожают самих зверьков или разрушают их норы</a:t>
            </a:r>
            <a:r>
              <a:rPr b="0" i="1" lang="en-US" sz="2200" spc="-1" strike="noStrike">
                <a:solidFill>
                  <a:srgbClr val="000066"/>
                </a:solidFill>
                <a:latin typeface="Curlz MT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atura MT Script Capitals"/>
              </a:rPr>
              <a:t>Враги   выхух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343160"/>
            <a:ext cx="1655640" cy="1135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19640" y="1343160"/>
            <a:ext cx="1655640" cy="1141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95280" y="4626000"/>
            <a:ext cx="1655640" cy="1138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95280" y="291636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12000" y="1343160"/>
            <a:ext cx="1655640" cy="1127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3419640" y="2573280"/>
            <a:ext cx="1942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Енотов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со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505240"/>
            <a:ext cx="158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Лис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148280"/>
            <a:ext cx="158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Горнос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859360"/>
            <a:ext cx="158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Вы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241960"/>
            <a:ext cx="158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Брод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216320"/>
            <a:ext cx="158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Брод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643120"/>
            <a:ext cx="158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Curlz MT"/>
              </a:rPr>
              <a:t>Хо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rcRect l="0" t="8333" r="0" b="17261"/>
          <a:stretch/>
        </p:blipFill>
        <p:spPr>
          <a:xfrm>
            <a:off x="7164360" y="4421160"/>
            <a:ext cx="177804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64000" y="563400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р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124000" y="2368080"/>
            <a:ext cx="3456000" cy="34210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00360" y="3052440"/>
            <a:ext cx="1439640" cy="2600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659640" y="2642760"/>
            <a:ext cx="649080" cy="29415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227280" y="4284360"/>
            <a:ext cx="73080" cy="12999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140000" y="5311800"/>
            <a:ext cx="1223640" cy="6141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908000" y="5859000"/>
            <a:ext cx="3456000" cy="204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124000" y="3668400"/>
            <a:ext cx="3384720" cy="21906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2627280" y="401148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788000" y="2986200"/>
            <a:ext cx="1655640" cy="116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78920"/>
            <a:ext cx="5040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Но наибольшее давление оказыв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акклиматизированные «чужаки»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американская норка и онда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292720" y="179280"/>
            <a:ext cx="1584360" cy="1230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093080" y="179280"/>
            <a:ext cx="1439640" cy="1230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484360" y="1343160"/>
            <a:ext cx="1943280" cy="1292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1343160"/>
            <a:ext cx="2016000" cy="129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4572000" y="1547640"/>
            <a:ext cx="39607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спортить жизнь также может роющий кабан, пасущийся ск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778120"/>
            <a:ext cx="504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960" indent="17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з птиц к врагам выхухоли относятся болотный лунь, черный коршун, скопа, беркут, филин и даже серая ворона и со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79280" y="4216320"/>
            <a:ext cx="92088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13098" t="14433" r="14689" b="-2016"/>
          <a:stretch/>
        </p:blipFill>
        <p:spPr>
          <a:xfrm>
            <a:off x="1258920" y="4216320"/>
            <a:ext cx="93672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340000" y="4216320"/>
            <a:ext cx="1152360" cy="903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468360" y="5241960"/>
            <a:ext cx="957240" cy="110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3635280" y="4216320"/>
            <a:ext cx="1297080" cy="890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1619280" y="5241960"/>
            <a:ext cx="1295280" cy="1060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3132000" y="5241960"/>
            <a:ext cx="1068480" cy="1042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508720" y="4216320"/>
            <a:ext cx="3311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 indent="169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И даже под водой приходится опасаться щуки и с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5580000" y="5173560"/>
            <a:ext cx="1650960" cy="104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7308720" y="5173560"/>
            <a:ext cx="1657440" cy="1025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4932360" y="2538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раги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ыхух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Главный  враг выхух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92720" y="932040"/>
            <a:ext cx="3168720" cy="205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24000" y="3738600"/>
            <a:ext cx="3456000" cy="2073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292720" y="3668760"/>
            <a:ext cx="3166920" cy="212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7" name=""/>
          <p:cNvSpPr txBox="1"/>
          <p:nvPr/>
        </p:nvSpPr>
        <p:spPr>
          <a:xfrm rot="5400000">
            <a:off x="1995840" y="2953440"/>
            <a:ext cx="489600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ylfaen"/>
              </a:rPr>
              <a:t>челове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ylfaen"/>
              <a:ea typeface="Sylfae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385640"/>
            <a:ext cx="3168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Человек преследует это красивое животное ради его меха, который так похож на мех бобра и ондат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2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62000"/>
            <a:ext cx="58327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urlz MT"/>
              </a:rPr>
              <a:t>Истребление русской выхухоли  стало столь масштабным, что к 30-м годам </a:t>
            </a:r>
            <a:r>
              <a:rPr b="1" i="1" lang="en-US" sz="2000" spc="-1" strike="noStrike">
                <a:solidFill>
                  <a:srgbClr val="003300"/>
                </a:solidFill>
                <a:latin typeface="Curlz MT"/>
              </a:rPr>
              <a:t>XX</a:t>
            </a:r>
            <a:r>
              <a:rPr b="1" i="1" lang="ru-RU" sz="2000" spc="-1" strike="noStrike">
                <a:solidFill>
                  <a:srgbClr val="003300"/>
                </a:solidFill>
                <a:latin typeface="Curlz MT"/>
              </a:rPr>
              <a:t> века на территории России зверёк был истреблен почти полностью. В стране стали предпринимать меры по охране и восстановлению численности этого зверька. В разные времена создали 4 запов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2728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435640" y="2232000"/>
            <a:ext cx="2303280" cy="17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2232000"/>
            <a:ext cx="2301840" cy="1488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987640" y="2232000"/>
            <a:ext cx="2232000" cy="1635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12000" y="109440"/>
            <a:ext cx="1728720" cy="1474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987640" y="3727440"/>
            <a:ext cx="2232000" cy="48420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Морд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3738600"/>
            <a:ext cx="2305080" cy="47772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О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3738600"/>
            <a:ext cx="2303280" cy="47952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Вор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1546200"/>
            <a:ext cx="1728720" cy="547560"/>
          </a:xfrm>
          <a:prstGeom prst="rect">
            <a:avLst/>
          </a:prstGeom>
          <a:solidFill>
            <a:srgbClr val="00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urlz MT"/>
              </a:rPr>
              <a:t>Хоп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urlz MT"/>
              </a:rPr>
              <a:t>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5653080"/>
            <a:ext cx="2374920" cy="66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5651640" y="5653080"/>
            <a:ext cx="682560" cy="63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 rot="20245800">
            <a:off x="6156360" y="4284720"/>
            <a:ext cx="1363680" cy="1614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 rot="1088400">
            <a:off x="7740360" y="4147920"/>
            <a:ext cx="1216080" cy="1577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 rot="296400">
            <a:off x="6877080" y="4763880"/>
            <a:ext cx="1371600" cy="156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24000" y="4559400"/>
            <a:ext cx="2786040" cy="1763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3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3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30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3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3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3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3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13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3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604440"/>
            <a:ext cx="7705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ыхухоль - хохуля маленький зверек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Слышала когда-то топот мамонтовых ног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Мамонтов нет больше, а зверек жив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Строит свои норки, по весне поет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Но живет с хохулей рядом человек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Осушает реки, вырубает лес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Рыбу сетью ловит, а маленький зверек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друг попался в сети, и выбраться не смог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Подсчитали люди - исчезает вид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Неужели участь мамонтов грозит?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Мы летаем в космос, строим Интерн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А помочь хохуле сможем или нет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Что зверушке нужно? Чистая вода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Дом с песком и илом, чтоб была еда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А на суше дерево ветвистое растет,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В его корнях выхухоль дом себе найд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Пусть сетей не будет, несущих столько бед!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Вот тогда и выживет маленький сосед!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Помоги хохуле каждый патриот -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urlz MT"/>
              </a:rPr>
              <a:t>                       Только лишь в России выхухоль живет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357" r="0" b="6845"/>
          <a:stretch/>
        </p:blipFill>
        <p:spPr>
          <a:xfrm>
            <a:off x="4716360" y="1025640"/>
            <a:ext cx="3065400" cy="390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 rot="20244000">
            <a:off x="8000640" y="496872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 rot="13942200">
            <a:off x="8127360" y="2334240"/>
            <a:ext cx="1087200" cy="1428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 rot="3252600">
            <a:off x="8056080" y="-17136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sessor"/>
              </a:rPr>
              <a:t>Выхухоль - хоху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75438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Matura MT Script Capitals"/>
              </a:rPr>
              <a:t>Выхухоль — редкий и ценный пушной зверек, занесенный в международную «Красную книгу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20772000">
            <a:off x="5508720" y="2538000"/>
            <a:ext cx="1423800" cy="1685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rot="1088400">
            <a:off x="7235640" y="2610000"/>
            <a:ext cx="1509480" cy="1958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rot="296400">
            <a:off x="6156000" y="3691080"/>
            <a:ext cx="1544760" cy="2066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1692360" y="2178000"/>
            <a:ext cx="61927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618560"/>
            <a:ext cx="532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urlz MT"/>
              </a:rPr>
              <a:t>Красная книга - это сигнал тревоги и свод данных, характеризующий положение с животными, попавшими в беду. Ощутимый эффект Красной книги определяется не ее изданием, а воплощением в жизнь тех идей и  положений, на которых она основана. Красная книга – это не справочник для коллекционера, а практический природоохранный документ. Все граждане должны принять активное участие в том, чтобы из года в год больше число видов животных исключалось из Красной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37764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Как вы думаете, почему Красную книгу назвали КРАС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Где вы еще встречались с красным цве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Вспомните, что показывает красный цвет у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от и Красная книга предупреждает нас об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 этой книге перечислены животные и растения, которые могут безвозвратно исчезнуть. И, если мы не защитим растения и животных, попавших в Красную книгу, они погибнут. Спасение их не возможно без специальных мер: запрета охоты, охраны в заповедни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боты об их размн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urlz MT"/>
              </a:rPr>
              <a:t>Красную Книгу называют Документом сове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Для удобства пользования, страницы у книги цветные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urlz MT"/>
              </a:rPr>
              <a:t>на красных  листа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помещены сведения о видах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находящихся под угрозой исчезнов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urlz MT"/>
              </a:rPr>
              <a:t>на желт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уязвимые ви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urlz MT"/>
              </a:rPr>
              <a:t>на бел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редких ви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5f5f5f"/>
                </a:solidFill>
                <a:latin typeface="Curlz MT"/>
              </a:rPr>
              <a:t>на сер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мало изученных и редких вид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lang="ru-RU" sz="1800" spc="-1" strike="noStrike">
                <a:solidFill>
                  <a:srgbClr val="003300"/>
                </a:solidFill>
                <a:latin typeface="Curlz MT"/>
              </a:rPr>
              <a:t>на зеленых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— сведения о восстановленных вид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               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Curlz MT"/>
              </a:rPr>
              <a:t>находящихся вне опас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urlz MT"/>
              </a:rPr>
              <a:t>А как вы думаете, что находится на чёрных страниц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urlz MT"/>
              </a:rPr>
              <a:t>Черными страницы стали тогда, когда вообще с лица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urlz MT"/>
              </a:rPr>
              <a:t>исчезли некоторые 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2394000"/>
            <a:ext cx="1506600" cy="201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 rot="1588200">
            <a:off x="7667280" y="4770360"/>
            <a:ext cx="1179360" cy="153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42920" y="1170000"/>
            <a:ext cx="6913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Старательно вникая в опыт древних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И постигая суть его корней,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Я стойкости учился у деревьев, 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А ловкости и силе- у зверей.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У птиц учился чувствовать свободу, 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У рыб, сосредоточенно молчать,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Поэтому обязан я природу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Matura MT Script Capitals"/>
              </a:rPr>
              <a:t>От всех врагов достойно охраня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2178000"/>
            <a:ext cx="7775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рок рассчитан на возрастную категорию учащихся 7-8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знакомить учащихся с древним животным, которому грозит полное вымирание – русской выхухол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ссмотреть экологические правила, которые должны выполнять люд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оспитывать бережное отношение к животным и их детёнышам, к природ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звивать умение сравнивать, обобща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развивать внимание, речь, мышление, осознанность и    самостоятельность рассу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33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омкова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учитель 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У «СОШ № 4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. Нориль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расноя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tal-42-school@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9007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Просмотр фильма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мы посмотрим с вами фильм о русской выхухоли, снятый телестудией «Брянский лес» в 2002 году при участии Центра охраны дикой природы (11 м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159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882360"/>
            <a:ext cx="754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ята! С 2000 года специалисты профессиональной природоохранной организац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тр охраны дикой прир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еализуют программу, направленную на сохранение русской выхухоли в природе. Но помочь выхухоли выжить могут не только специалисты, но и каждый из нас. Вы все получили  листовки с краткой информацией о проблеме исчезновения этого зверька. Эти листовки можно размножить на ксероксе или скачать из Интернета и распечатать на принтере. Пожалуйста, сделайте несколько копий этих листовок и разместите их на досках объявлений в посещаемых вами местах. Раздайте их вашим родителям, расскажите им о выхухоли, попросите их  отнести эти листовки на работу. Этим вы внесете свой вклад в дело спасения этого уникального живо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и будет вашим домашним заданием. На следующем уроке каждый из вас расскажет, сколько  листовок вам  удалось раздать и сколько людей узнало благодаря вам о проблеме исчезновения русской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олезные ссылки к уроку: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73800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gallery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vide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ильм «Русская выхухоль», телестудии «Брянский лес» (11 мин., рус. и англ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5-06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fl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74844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French Script MT"/>
              </a:rPr>
              <a:t>Примечание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882440"/>
            <a:ext cx="7543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агаемая методическая разработка — победитель конкурс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нтра охраны дикой природы «Школьный урок о русской выхухоли» (2008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лее подробную информацию о конкурсе можно найти на сайте: </a:t>
            </a:r>
            <a:br>
              <a:rPr sz="2800"/>
            </a:b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news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/020908.html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72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atura MT Script Capitals"/>
              </a:rPr>
              <a:t>Литература 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538020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240" y="1601640"/>
            <a:ext cx="38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hotniki.com/new/6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20" y="217800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Desmana_mosch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0880" y="268272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920" y="3330720"/>
            <a:ext cx="69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odiversity.ru/publications/odp/archive/21/03han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3760" y="95400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odiversity.ru/programs/vyhuhol-ma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19640" y="4267080"/>
            <a:ext cx="40320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Комкова И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учитель 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МОУ «СОШ № 4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г. Нориль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urlz MT"/>
              </a:rPr>
              <a:t>Краснояр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79280" y="378000"/>
            <a:ext cx="8280360" cy="5760720"/>
          </a:xfrm>
          <a:prstGeom prst="rect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</p:pic>
    </p:spTree>
  </p:cSld>
  <p:transition spd="slow">
    <p:strips dir="rd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54 из 18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776680"/>
            <a:ext cx="7632720" cy="344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03640" y="882720"/>
            <a:ext cx="4753080" cy="2174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79280" y="17928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urlz MT"/>
              </a:rPr>
              <a:t>Давным-давно…</a:t>
            </a:r>
            <a:r>
              <a:rPr b="1" lang="en-US" sz="4800" spc="-1" strike="noStrike">
                <a:solidFill>
                  <a:srgbClr val="ff0000"/>
                </a:solidFill>
                <a:latin typeface="Asessor"/>
              </a:rPr>
              <a:t>   </a:t>
            </a:r>
            <a:r>
              <a:rPr b="1" i="1" lang="en-US" sz="2800" spc="-1" strike="noStrike">
                <a:solidFill>
                  <a:srgbClr val="663300"/>
                </a:solidFill>
                <a:latin typeface="Modern No. 20"/>
              </a:rPr>
              <a:t>30 млн. лет назад</a:t>
            </a:r>
            <a:r>
              <a:rPr b="0" i="1" lang="en-US" sz="2800" spc="-1" strike="noStrike">
                <a:solidFill>
                  <a:srgbClr val="003300"/>
                </a:solidFill>
                <a:latin typeface="Modern No. 2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999720"/>
            <a:ext cx="32400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Modern No. 20"/>
              </a:rPr>
              <a:t>…</a:t>
            </a:r>
            <a:r>
              <a:rPr b="1" i="1" lang="en-US" sz="2400" spc="-1" strike="noStrike">
                <a:solidFill>
                  <a:srgbClr val="003300"/>
                </a:solidFill>
                <a:latin typeface="Modern No. 20"/>
              </a:rPr>
              <a:t>в стародавние времена, когда по земле ходили мохнатые гиганты мамон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052800"/>
            <a:ext cx="7488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320" indent="-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…</a:t>
            </a: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в водоёмах почти по всей территории нынешней Европы жило маленькое животное с длинным носом, похожим на хобо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219640" y="4986360"/>
            <a:ext cx="2684520" cy="121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8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3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9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069560"/>
            <a:ext cx="78487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Мамонты и многие другие животные исчезли с лица Земли. А вот маленький зверек остался до наших дней. И мало того, нисколько не изменился благодаря своей приспособленности к определенным условиям обитания в подземной в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Modern No. 20"/>
              </a:rPr>
              <a:t>Но распространение его очень резко уменьшилос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odern No. 2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urlz MT"/>
              </a:rPr>
              <a:t>Время шл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3052800"/>
            <a:ext cx="2403360" cy="330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79280" y="360036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urlz MT"/>
              </a:rPr>
              <a:t>Что же это за животное так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35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55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85040"/>
            <a:ext cx="7993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dern No. 20"/>
              </a:rPr>
              <a:t>Чтобы сохранить и восстановить этого зверька правительство объявило, места, где оно обитает – заповедными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479600"/>
            <a:ext cx="74390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Научные работники стали вести наблюдения за редкостным зверь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394000"/>
            <a:ext cx="3672000" cy="2531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95640" y="2394000"/>
            <a:ext cx="44150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60" indent="1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Но чрезвычайно скрытый образ жизни не давал возможности проникнуть в его тайны. Зверё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1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во многом оставался загадо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311800"/>
            <a:ext cx="7488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960" indent="1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Matura MT Script Capitals"/>
              </a:rPr>
              <a:t>Систематические наблюдения в заповедниках позволили раскрыть многие особенности звер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098360"/>
            <a:ext cx="5004000" cy="51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Представьте себе нечто продолговатое, покрытое коричнево-серебристой шерстью, с одного конца торчит длинный подвижный хоботок, с другой – сплющенный с боков чешуйчатый хвос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Длина туловища 18–25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а хвост– 17-2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У этого существа маленькие глазки и слабое зрение, но слух – очень хорош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Между пальцами имеются плавательные переп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Масса 38</a:t>
            </a:r>
            <a:r>
              <a:rPr b="1" i="1" lang="en-US" sz="2000" spc="-1" strike="noStrike">
                <a:solidFill>
                  <a:srgbClr val="000066"/>
                </a:solidFill>
                <a:latin typeface="Lucida Calligraphy"/>
              </a:rPr>
              <a:t>0-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52</a:t>
            </a:r>
            <a:r>
              <a:rPr b="1" i="1" lang="en-US" sz="2000" spc="-1" strike="noStrike">
                <a:solidFill>
                  <a:srgbClr val="000066"/>
                </a:solidFill>
                <a:latin typeface="Lucida Calligraphy"/>
              </a:rPr>
              <a:t>0 </a:t>
            </a:r>
            <a:r>
              <a:rPr b="1" i="1" lang="ru-RU" sz="2000" spc="-1" strike="noStrike">
                <a:solidFill>
                  <a:srgbClr val="000066"/>
                </a:solidFill>
                <a:latin typeface="Lucida Calligraphy"/>
              </a:rPr>
              <a:t>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Внешний вид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233280"/>
            <a:ext cx="4175280" cy="1400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716360" y="44830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Именно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mic"/>
              </a:rPr>
              <a:t>выгля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atura MT Script Capitals"/>
              </a:rPr>
              <a:t>Выхух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2394000"/>
            <a:ext cx="266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Matura MT Script Capitals"/>
              </a:rPr>
              <a:t>Представи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Matura MT Script Capitals"/>
              </a:rPr>
              <a:t>А теперь смотрит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Русская выхухоль - Desmana moschata"/>
          <p:cNvPicPr/>
          <p:nvPr/>
        </p:nvPicPr>
        <p:blipFill>
          <a:blip r:embed="rId3"/>
          <a:stretch/>
        </p:blipFill>
        <p:spPr>
          <a:xfrm>
            <a:off x="5148360" y="1890720"/>
            <a:ext cx="2808360" cy="2478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p:transition spd="slow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7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8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9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9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4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9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44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1136520"/>
            <a:ext cx="41990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Curlz MT"/>
              </a:rPr>
              <a:t>Обитает выхухоль в стоячих или медленно текущих водах речных заводей, стариц и пойменных озер. На севере распространения охотно заселяет зарастающие лесные озера. На юге встречается по широким речным поймам, среди полузатопленного леса.</a:t>
            </a:r>
            <a:r>
              <a:rPr b="1" i="1" lang="en-US" sz="22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Среда  обитани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24 из 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911760"/>
            <a:ext cx="3743280" cy="219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211640" y="3978360"/>
            <a:ext cx="35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19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Оптимальные условия для жизни выхухоли имеются в водоемах глубиной от 1 до 2 м, более мелкие водоемы непригодны в связи с зимним промерзанием</a:t>
            </a: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643280" y="1314360"/>
            <a:ext cx="3743640" cy="2246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809280"/>
            <a:ext cx="3745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64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Curlz MT"/>
              </a:rPr>
              <a:t>Увидеть выхухоль нелегко: она очень осторожна, и лишь рано утром или вечером настойчивый наблюдатель, если повезет, заметит торчащий из воды хоботок или голову высунувшегося подышать зверь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62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322360"/>
            <a:ext cx="5400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64800" indent="17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удобных, поросших лесом берегах роют они целые лабиринты нор. Входы в них скрыты в воде. Если уровень водоема падает, зверьки удлиняют подземные ходы и снова уводят их в воду. В норах они выводят детенышей, отдыхают, часто кормятся, а то и просто заходят сюда глотнуть воздуха - ведь в воде выхухоль может находиться не более 4 - 5 минут, изредка до 7 - 8 минут. От одного входа к другому зверьку пробираются по дну, прокладывая в иле целые транше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87280" y="2970360"/>
            <a:ext cx="1551240" cy="1612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79280" y="4699080"/>
            <a:ext cx="2594160" cy="1504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233280"/>
            <a:ext cx="2376720" cy="155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233280"/>
            <a:ext cx="1746000" cy="158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842920" y="1025280"/>
            <a:ext cx="4848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urlz MT"/>
              </a:rPr>
              <a:t>В воде проводит и день и ночь, и зиму и лето, даже когда лед покрывает реки, она продолжает кормиться в воде и, только наевшись досыта и утомившись, возвращается в свою нору, вход в которую лежит всегда так низко, что даже самый толстый лед не может его закры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9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atura MT Script Capitals"/>
              </a:rPr>
              <a:t>Образ жизн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360" y="1459080"/>
            <a:ext cx="2496960" cy="374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24360" y="4049640"/>
            <a:ext cx="3039840" cy="2227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39:06Z</dcterms:created>
  <dc:creator>Ученик</dc:creator>
  <dc:description/>
  <dc:language>en-US</dc:language>
  <cp:lastModifiedBy>Natasha Novoselova</cp:lastModifiedBy>
  <dcterms:modified xsi:type="dcterms:W3CDTF">2009-10-29T13:59:17Z</dcterms:modified>
  <cp:revision>69</cp:revision>
  <dc:subject/>
  <dc:title>Слайд 1</dc:title>
</cp:coreProperties>
</file>